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4CC-3A7B-42A0-A6F9-7BC3181C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D0E-5429-41F9-B7A0-2F19738C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C8C7-29D1-4F8F-9F96-2D3D4ED5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CF6-2BC9-45DD-85C5-8238C330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7E1-4969-4AD2-8BE7-02B761D4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7483-E7C4-4A46-B5A1-A9AEB1CC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8CF1-3E2B-48D2-8313-C902A200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886-1DA3-4A87-BED2-DA451611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54C4-122C-4E69-82DB-3DD03BCB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D256-2D57-4892-8A8F-28E5F402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F20-223E-4BC3-A6CA-79A3FE03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FBE-0544-45AA-BABB-40D913F2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C7C0-4787-45B7-8464-D4932BCA6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30640" y="1371600"/>
            <a:ext cx="2819160" cy="19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0A200" descr=""/>
          <p:cNvPicPr/>
          <p:nvPr/>
        </p:nvPicPr>
        <p:blipFill>
          <a:blip r:embed="rId1"/>
          <a:stretch/>
        </p:blipFill>
        <p:spPr>
          <a:xfrm>
            <a:off x="3687840" y="1695600"/>
            <a:ext cx="1904760" cy="1333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49200"/>
            <a:ext cx="9144000" cy="642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Times New Roman"/>
              </a:rPr>
              <a:t>the OAI: technical overvie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160" y="6248520"/>
            <a:ext cx="906768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OAI Open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Washington DC – January 23</a:t>
            </a:r>
            <a:r>
              <a:rPr b="0" lang="nl-BE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38480"/>
            <a:ext cx="914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bert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de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mpel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&amp; Carl Lago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Corne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University 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Computer 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HTTP encoding - responses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905120"/>
            <a:ext cx="6172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460440"/>
                <a:tab algn="l" pos="682560"/>
                <a:tab algn="l" pos="91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xml version=1.0 encoding=“UTF-9” ?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GetRecor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mlns=“http://oai.namespace.uri”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mlns:xsi=“http://w3.namespace.uri”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si:schemaLocation=“http://oai.namespace.uri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oai.schemaURL”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responseDate&gt;2000-19-01T19:30:30-04:00&lt;/responseDate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requestURL&gt;http://an.oa.org/OAI-script?verb=GetRecor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amp;amp;identifier=oai%3AarXiv%3A0001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amp;amp;metadataPrefix=oai_dc&lt;/requestURL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record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record content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/recor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dditional record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/GetRecord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705720" y="3505320"/>
            <a:ext cx="1600200" cy="1218960"/>
            <a:chOff x="6705720" y="3505320"/>
            <a:chExt cx="1600200" cy="1218960"/>
          </a:xfrm>
        </p:grpSpPr>
        <p:sp>
          <p:nvSpPr>
            <p:cNvPr id="168" name=""/>
            <p:cNvSpPr/>
            <p:nvPr/>
          </p:nvSpPr>
          <p:spPr>
            <a:xfrm>
              <a:off x="6705720" y="3505320"/>
              <a:ext cx="228600" cy="12189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376236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response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head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705720" y="2209680"/>
            <a:ext cx="1600200" cy="1219320"/>
            <a:chOff x="6705720" y="2209680"/>
            <a:chExt cx="1600200" cy="1219320"/>
          </a:xfrm>
        </p:grpSpPr>
        <p:sp>
          <p:nvSpPr>
            <p:cNvPr id="171" name=""/>
            <p:cNvSpPr/>
            <p:nvPr/>
          </p:nvSpPr>
          <p:spPr>
            <a:xfrm>
              <a:off x="6705720" y="2209680"/>
              <a:ext cx="228600" cy="12193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58000" y="246708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xml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namespa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705720" y="4800600"/>
            <a:ext cx="1600200" cy="1066680"/>
            <a:chOff x="6705720" y="4800600"/>
            <a:chExt cx="1600200" cy="1066680"/>
          </a:xfrm>
        </p:grpSpPr>
        <p:sp>
          <p:nvSpPr>
            <p:cNvPr id="174" name=""/>
            <p:cNvSpPr/>
            <p:nvPr/>
          </p:nvSpPr>
          <p:spPr>
            <a:xfrm>
              <a:off x="6705720" y="4800600"/>
              <a:ext cx="228600" cy="10666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0" y="505764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response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metadata prefix and schema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 for harvesting multiple metadata form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tadata sche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each format must have a validating XML schema at a publicly accessible URL (communities may define shared formats and sch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tadata prefi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each repository maps a prefix to the schema it supports, which is used in protocol request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 for unqualified Dublin Core manda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erved schema URL at http://www.openarchives.org/OAI/dc.xs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erved prefix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ai_d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flow control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33520" y="2590920"/>
            <a:ext cx="7086600" cy="1295280"/>
            <a:chOff x="533520" y="2590920"/>
            <a:chExt cx="7086600" cy="1295280"/>
          </a:xfrm>
        </p:grpSpPr>
        <p:grpSp>
          <p:nvGrpSpPr>
            <p:cNvPr id="180" name=""/>
            <p:cNvGrpSpPr/>
            <p:nvPr/>
          </p:nvGrpSpPr>
          <p:grpSpPr>
            <a:xfrm>
              <a:off x="533520" y="2590920"/>
              <a:ext cx="914400" cy="1295280"/>
              <a:chOff x="533520" y="2590920"/>
              <a:chExt cx="914400" cy="1295280"/>
            </a:xfrm>
          </p:grpSpPr>
          <p:sp>
            <p:nvSpPr>
              <p:cNvPr id="181" name=""/>
              <p:cNvSpPr/>
              <p:nvPr/>
            </p:nvSpPr>
            <p:spPr>
              <a:xfrm>
                <a:off x="533520" y="259092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9480" y="2666880"/>
                <a:ext cx="38124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5800" y="274320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2120" y="281952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38080" y="2895480"/>
                <a:ext cx="38124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14400" y="297180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90720" y="3505320"/>
                <a:ext cx="457200" cy="380880"/>
              </a:xfrm>
              <a:prstGeom prst="flowChartPunchedTape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600200" y="3429000"/>
              <a:ext cx="6019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057400" y="2133720"/>
            <a:ext cx="3809880" cy="4176720"/>
            <a:chOff x="2057400" y="2133720"/>
            <a:chExt cx="3809880" cy="4176720"/>
          </a:xfrm>
        </p:grpSpPr>
        <p:sp>
          <p:nvSpPr>
            <p:cNvPr id="190" name=""/>
            <p:cNvSpPr/>
            <p:nvPr/>
          </p:nvSpPr>
          <p:spPr>
            <a:xfrm>
              <a:off x="3657600" y="259092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protocol requ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57600" y="3063960"/>
              <a:ext cx="2133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514240" y="2425680"/>
              <a:ext cx="1066680" cy="3581280"/>
              <a:chOff x="2514240" y="2425680"/>
              <a:chExt cx="1066680" cy="3581280"/>
            </a:xfrm>
          </p:grpSpPr>
          <p:sp>
            <p:nvSpPr>
              <p:cNvPr id="193" name=""/>
              <p:cNvSpPr/>
              <p:nvPr/>
            </p:nvSpPr>
            <p:spPr>
              <a:xfrm rot="5400000">
                <a:off x="1256760" y="368280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94" name="OA50" descr=""/>
              <p:cNvPicPr/>
              <p:nvPr/>
            </p:nvPicPr>
            <p:blipFill>
              <a:blip r:embed="rId1"/>
              <a:stretch/>
            </p:blipFill>
            <p:spPr>
              <a:xfrm>
                <a:off x="2809800" y="404928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"/>
            <p:cNvGrpSpPr/>
            <p:nvPr/>
          </p:nvGrpSpPr>
          <p:grpSpPr>
            <a:xfrm>
              <a:off x="2057400" y="2133720"/>
              <a:ext cx="457200" cy="4176720"/>
              <a:chOff x="2057400" y="2133720"/>
              <a:chExt cx="457200" cy="4176720"/>
            </a:xfrm>
          </p:grpSpPr>
          <p:sp>
            <p:nvSpPr>
              <p:cNvPr id="196" name=""/>
              <p:cNvSpPr/>
              <p:nvPr/>
            </p:nvSpPr>
            <p:spPr>
              <a:xfrm>
                <a:off x="2057400" y="213372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081160" y="224352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5943240" y="2146320"/>
            <a:ext cx="2743200" cy="4176720"/>
            <a:chOff x="5943240" y="2146320"/>
            <a:chExt cx="2743200" cy="4176720"/>
          </a:xfrm>
        </p:grpSpPr>
        <p:grpSp>
          <p:nvGrpSpPr>
            <p:cNvPr id="199" name=""/>
            <p:cNvGrpSpPr/>
            <p:nvPr/>
          </p:nvGrpSpPr>
          <p:grpSpPr>
            <a:xfrm>
              <a:off x="5943240" y="2146320"/>
              <a:ext cx="1524240" cy="4176720"/>
              <a:chOff x="5943240" y="2146320"/>
              <a:chExt cx="1524240" cy="417672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5943240" y="2438280"/>
                <a:ext cx="1066680" cy="3581640"/>
                <a:chOff x="5943240" y="2438280"/>
                <a:chExt cx="1066680" cy="3581640"/>
              </a:xfrm>
            </p:grpSpPr>
            <p:sp>
              <p:nvSpPr>
                <p:cNvPr id="201" name=""/>
                <p:cNvSpPr/>
                <p:nvPr/>
              </p:nvSpPr>
              <p:spPr>
                <a:xfrm rot="5400000">
                  <a:off x="4685760" y="3695760"/>
                  <a:ext cx="3581640" cy="106668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02" name="OA5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238800" y="4062240"/>
                  <a:ext cx="476280" cy="333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3" name=""/>
              <p:cNvGrpSpPr/>
              <p:nvPr/>
            </p:nvGrpSpPr>
            <p:grpSpPr>
              <a:xfrm>
                <a:off x="7010280" y="2146320"/>
                <a:ext cx="457200" cy="4176720"/>
                <a:chOff x="7010280" y="2146320"/>
                <a:chExt cx="457200" cy="417672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7010280" y="2146320"/>
                  <a:ext cx="457200" cy="417672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034040" y="2256120"/>
                  <a:ext cx="401400" cy="375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nl-BE" sz="2400" spc="-1" strike="noStrike">
                      <a:solidFill>
                        <a:srgbClr val="ffffff"/>
                      </a:solidFill>
                      <a:latin typeface="Times New Roman"/>
                    </a:rPr>
                    <a:t>repos i tory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7696080" y="2286000"/>
              <a:ext cx="838440" cy="1752480"/>
              <a:chOff x="7696080" y="2286000"/>
              <a:chExt cx="838440" cy="1752480"/>
            </a:xfrm>
          </p:grpSpPr>
          <p:sp>
            <p:nvSpPr>
              <p:cNvPr id="207" name=""/>
              <p:cNvSpPr/>
              <p:nvPr/>
            </p:nvSpPr>
            <p:spPr>
              <a:xfrm>
                <a:off x="7696080" y="22860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772400" y="25146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720" y="27432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924680" y="29718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001000" y="3200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077320" y="34290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7848720" y="4114800"/>
              <a:ext cx="837720" cy="1752480"/>
              <a:chOff x="7848720" y="4114800"/>
              <a:chExt cx="837720" cy="1752480"/>
            </a:xfrm>
          </p:grpSpPr>
          <p:sp>
            <p:nvSpPr>
              <p:cNvPr id="214" name=""/>
              <p:cNvSpPr/>
              <p:nvPr/>
            </p:nvSpPr>
            <p:spPr>
              <a:xfrm>
                <a:off x="7848720" y="4114800"/>
                <a:ext cx="45684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924680" y="4343400"/>
                <a:ext cx="45684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001000" y="4572000"/>
                <a:ext cx="45684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076960" y="4800600"/>
                <a:ext cx="45684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153280" y="5029200"/>
                <a:ext cx="45684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229600" y="5257800"/>
                <a:ext cx="45684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" name=""/>
          <p:cNvGrpSpPr/>
          <p:nvPr/>
        </p:nvGrpSpPr>
        <p:grpSpPr>
          <a:xfrm>
            <a:off x="533520" y="4038480"/>
            <a:ext cx="7086600" cy="1295640"/>
            <a:chOff x="533520" y="4038480"/>
            <a:chExt cx="7086600" cy="1295640"/>
          </a:xfrm>
        </p:grpSpPr>
        <p:grpSp>
          <p:nvGrpSpPr>
            <p:cNvPr id="221" name=""/>
            <p:cNvGrpSpPr/>
            <p:nvPr/>
          </p:nvGrpSpPr>
          <p:grpSpPr>
            <a:xfrm>
              <a:off x="533520" y="4495680"/>
              <a:ext cx="761760" cy="838440"/>
              <a:chOff x="533520" y="4495680"/>
              <a:chExt cx="761760" cy="838440"/>
            </a:xfrm>
          </p:grpSpPr>
          <p:sp>
            <p:nvSpPr>
              <p:cNvPr id="222" name=""/>
              <p:cNvSpPr/>
              <p:nvPr/>
            </p:nvSpPr>
            <p:spPr>
              <a:xfrm>
                <a:off x="533520" y="449568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09480" y="4572000"/>
                <a:ext cx="38124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5800" y="464832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2120" y="472428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38080" y="4800600"/>
                <a:ext cx="38124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914400" y="487692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657600" y="4511520"/>
              <a:ext cx="2133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00200" y="4876920"/>
              <a:ext cx="6019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95680" y="4038480"/>
              <a:ext cx="457200" cy="381240"/>
            </a:xfrm>
            <a:prstGeom prst="flowChartPunchedTap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flow control specifics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es to all protocol requests that return lists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istRecord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istIdentifi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istS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ptionToken is opa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mantics of partitioning of responses within resumption requests is un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-to-live of resumptionToken is not defined by the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OAI harvesting to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255400" y="2257560"/>
            <a:ext cx="44812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Supporting protocol reques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Identif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MetadataForm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4205160"/>
            <a:ext cx="45720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Harvesting protocol reques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Identif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GetRec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239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240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41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2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243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246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247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48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9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250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supporting protocol requ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676520" y="26668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35200" y="21798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Identif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350532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64400" y="3733920"/>
            <a:ext cx="332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Repository 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Base-U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Admin e-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OAI protocol ver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Description Contai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262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263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64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5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266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269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270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71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2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273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5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supporting protocol requ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320" y="642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676520" y="26668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00280" y="217980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MetadataForm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350532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72400" y="3733920"/>
            <a:ext cx="32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Format pref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Format XML 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/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286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287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8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9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290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293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294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95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6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297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supporting protocol requ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676520" y="26668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8800" y="21798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76520" y="350532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63080" y="3733920"/>
            <a:ext cx="271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Set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Set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/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309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310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11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2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313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316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317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18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9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320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2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harvesting requ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676520" y="26668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09720" y="1114560"/>
            <a:ext cx="535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                   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*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from=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                    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* until=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                    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* set=kl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Records  *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metadataPrefix=oai_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350532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06080" y="3733920"/>
            <a:ext cx="250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Ident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Datesta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About Contai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/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332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333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34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5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336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339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340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41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2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343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5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harvesting requ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676520" y="26668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6520" y="350532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31400" y="3733920"/>
            <a:ext cx="19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Ident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Datesta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/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354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355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56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7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358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0" name=""/>
          <p:cNvSpPr/>
          <p:nvPr/>
        </p:nvSpPr>
        <p:spPr>
          <a:xfrm>
            <a:off x="1797120" y="1327320"/>
            <a:ext cx="455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                                    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*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from=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                                    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*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until=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Identifiers              *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set=kl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362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363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64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5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366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8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protocol specification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s &amp; con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esta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col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 enco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data prefix &amp; 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w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col requ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ing reque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vesting reque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harvesting requ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309240" y="2286000"/>
            <a:ext cx="1066680" cy="3581280"/>
            <a:chOff x="309240" y="2286000"/>
            <a:chExt cx="1066680" cy="3581280"/>
          </a:xfrm>
        </p:grpSpPr>
        <p:sp>
          <p:nvSpPr>
            <p:cNvPr id="374" name=""/>
            <p:cNvSpPr/>
            <p:nvPr/>
          </p:nvSpPr>
          <p:spPr>
            <a:xfrm rot="5400000">
              <a:off x="-947880" y="3543120"/>
              <a:ext cx="3581280" cy="106668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75" name="OA50" descr=""/>
            <p:cNvPicPr/>
            <p:nvPr/>
          </p:nvPicPr>
          <p:blipFill>
            <a:blip r:embed="rId2"/>
            <a:stretch/>
          </p:blipFill>
          <p:spPr>
            <a:xfrm>
              <a:off x="604800" y="3909600"/>
              <a:ext cx="476280" cy="3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"/>
          <p:cNvSpPr/>
          <p:nvPr/>
        </p:nvSpPr>
        <p:spPr>
          <a:xfrm>
            <a:off x="1676520" y="26668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43560" y="182880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                    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*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identifier=oai:mlib:123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GetRecord    *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metadataPrefix=oai_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76520" y="350532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31400" y="3733920"/>
            <a:ext cx="19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Ident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Datesta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Ab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381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382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83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385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388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389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90" name="OA50" descr=""/>
              <p:cNvPicPr/>
              <p:nvPr/>
            </p:nvPicPr>
            <p:blipFill>
              <a:blip r:embed="rId4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1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392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4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repository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010280" y="2146320"/>
            <a:ext cx="457200" cy="4176720"/>
            <a:chOff x="7010280" y="2146320"/>
            <a:chExt cx="457200" cy="4176720"/>
          </a:xfrm>
        </p:grpSpPr>
        <p:sp>
          <p:nvSpPr>
            <p:cNvPr id="51" name=""/>
            <p:cNvSpPr/>
            <p:nvPr/>
          </p:nvSpPr>
          <p:spPr>
            <a:xfrm>
              <a:off x="7010280" y="2146320"/>
              <a:ext cx="457200" cy="41767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34040" y="2256120"/>
              <a:ext cx="40140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BE" sz="2400" spc="-1" strike="noStrike">
                  <a:solidFill>
                    <a:srgbClr val="ffffff"/>
                  </a:solidFill>
                  <a:latin typeface="Times New Roman"/>
                </a:rPr>
                <a:t>repos i t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057400" y="2146320"/>
            <a:ext cx="4952520" cy="4176720"/>
            <a:chOff x="2057400" y="2146320"/>
            <a:chExt cx="4952520" cy="4176720"/>
          </a:xfrm>
        </p:grpSpPr>
        <p:grpSp>
          <p:nvGrpSpPr>
            <p:cNvPr id="54" name=""/>
            <p:cNvGrpSpPr/>
            <p:nvPr/>
          </p:nvGrpSpPr>
          <p:grpSpPr>
            <a:xfrm>
              <a:off x="5943240" y="2438280"/>
              <a:ext cx="1066680" cy="3581640"/>
              <a:chOff x="5943240" y="2438280"/>
              <a:chExt cx="1066680" cy="3581640"/>
            </a:xfrm>
          </p:grpSpPr>
          <p:sp>
            <p:nvSpPr>
              <p:cNvPr id="55" name=""/>
              <p:cNvSpPr/>
              <p:nvPr/>
            </p:nvSpPr>
            <p:spPr>
              <a:xfrm rot="5400000">
                <a:off x="4685760" y="3695760"/>
                <a:ext cx="358164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6" name="OA50" descr=""/>
              <p:cNvPicPr/>
              <p:nvPr/>
            </p:nvPicPr>
            <p:blipFill>
              <a:blip r:embed="rId1"/>
              <a:stretch/>
            </p:blipFill>
            <p:spPr>
              <a:xfrm>
                <a:off x="6238800" y="4062240"/>
                <a:ext cx="476280" cy="333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2057400" y="2146320"/>
              <a:ext cx="3733920" cy="4176720"/>
              <a:chOff x="2057400" y="2146320"/>
              <a:chExt cx="3733920" cy="4176720"/>
            </a:xfrm>
          </p:grpSpPr>
          <p:sp>
            <p:nvSpPr>
              <p:cNvPr id="58" name=""/>
              <p:cNvSpPr/>
              <p:nvPr/>
            </p:nvSpPr>
            <p:spPr>
              <a:xfrm>
                <a:off x="3657600" y="3581280"/>
                <a:ext cx="2133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86200" y="3184560"/>
                <a:ext cx="175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oai protoco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2057400" y="2146320"/>
                <a:ext cx="1523520" cy="4176720"/>
                <a:chOff x="2057400" y="2146320"/>
                <a:chExt cx="1523520" cy="4176720"/>
              </a:xfrm>
            </p:grpSpPr>
            <p:grpSp>
              <p:nvGrpSpPr>
                <p:cNvPr id="61" name=""/>
                <p:cNvGrpSpPr/>
                <p:nvPr/>
              </p:nvGrpSpPr>
              <p:grpSpPr>
                <a:xfrm>
                  <a:off x="2514240" y="2438280"/>
                  <a:ext cx="1066680" cy="3581280"/>
                  <a:chOff x="2514240" y="2438280"/>
                  <a:chExt cx="1066680" cy="358128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 rot="5400000">
                    <a:off x="1256760" y="3695400"/>
                    <a:ext cx="3581280" cy="1066680"/>
                  </a:xfrm>
                  <a:prstGeom prst="rect">
                    <a:avLst/>
                  </a:prstGeom>
                  <a:solidFill>
                    <a:srgbClr val="ff00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3" name="OA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9800" y="4061880"/>
                    <a:ext cx="4762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4" name=""/>
                <p:cNvGrpSpPr/>
                <p:nvPr/>
              </p:nvGrpSpPr>
              <p:grpSpPr>
                <a:xfrm>
                  <a:off x="2057400" y="2146320"/>
                  <a:ext cx="457200" cy="4176720"/>
                  <a:chOff x="2057400" y="2146320"/>
                  <a:chExt cx="457200" cy="4176720"/>
                </a:xfrm>
              </p:grpSpPr>
              <p:sp>
                <p:nvSpPr>
                  <p:cNvPr id="65" name=""/>
                  <p:cNvSpPr/>
                  <p:nvPr/>
                </p:nvSpPr>
                <p:spPr>
                  <a:xfrm>
                    <a:off x="2057400" y="2146320"/>
                    <a:ext cx="457200" cy="4176720"/>
                  </a:xfrm>
                  <a:prstGeom prst="rect">
                    <a:avLst/>
                  </a:prstGeom>
                  <a:solidFill>
                    <a:srgbClr val="009999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2081160" y="2256120"/>
                    <a:ext cx="401400" cy="338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 algn="ctr"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nl-BE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arves ter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7" name=""/>
          <p:cNvGrpSpPr/>
          <p:nvPr/>
        </p:nvGrpSpPr>
        <p:grpSpPr>
          <a:xfrm>
            <a:off x="533520" y="1752480"/>
            <a:ext cx="6324480" cy="1067040"/>
            <a:chOff x="533520" y="1752480"/>
            <a:chExt cx="6324480" cy="1067040"/>
          </a:xfrm>
        </p:grpSpPr>
        <p:sp>
          <p:nvSpPr>
            <p:cNvPr id="68" name=""/>
            <p:cNvSpPr/>
            <p:nvPr/>
          </p:nvSpPr>
          <p:spPr>
            <a:xfrm>
              <a:off x="533520" y="1752480"/>
              <a:ext cx="1218960" cy="106704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upport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28800" y="2286000"/>
              <a:ext cx="502920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4724280"/>
            <a:ext cx="8305560" cy="1828800"/>
            <a:chOff x="533520" y="4724280"/>
            <a:chExt cx="8305560" cy="1828800"/>
          </a:xfrm>
        </p:grpSpPr>
        <p:grpSp>
          <p:nvGrpSpPr>
            <p:cNvPr id="71" name=""/>
            <p:cNvGrpSpPr/>
            <p:nvPr/>
          </p:nvGrpSpPr>
          <p:grpSpPr>
            <a:xfrm>
              <a:off x="7620120" y="4800600"/>
              <a:ext cx="1218600" cy="1523520"/>
              <a:chOff x="7620120" y="4800600"/>
              <a:chExt cx="1218600" cy="1523520"/>
            </a:xfrm>
          </p:grpSpPr>
          <p:sp>
            <p:nvSpPr>
              <p:cNvPr id="72" name=""/>
              <p:cNvSpPr/>
              <p:nvPr/>
            </p:nvSpPr>
            <p:spPr>
              <a:xfrm>
                <a:off x="7620120" y="4800600"/>
                <a:ext cx="365400" cy="55368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742160" y="4938840"/>
                <a:ext cx="365400" cy="55404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863840" y="5077440"/>
                <a:ext cx="365400" cy="55368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985520" y="5216040"/>
                <a:ext cx="365400" cy="55368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07560" y="5354280"/>
                <a:ext cx="365400" cy="55404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229600" y="5493240"/>
                <a:ext cx="365400" cy="55368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351280" y="5631480"/>
                <a:ext cx="365400" cy="55368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473320" y="5770080"/>
                <a:ext cx="365400" cy="55404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533520" y="5486400"/>
              <a:ext cx="1218960" cy="106668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arv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28800" y="6095880"/>
              <a:ext cx="609588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77320" y="47242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item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record</a:t>
            </a: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9051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447920"/>
            <a:ext cx="5715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61880"/>
                <a:tab algn="l" pos="861840"/>
                <a:tab algn="l" pos="137304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record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identifier&gt;oai:eg:001&lt;/identifier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stamp&gt;1999-01-01&lt;/datestamp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header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metadata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c xmlns=“http://purl.org/dc”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title&gt;My Example&lt;/title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dc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metadata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about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ea xmlns=“http://www.arXiv.org/ea”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usage&gt;No restrictions&lt;/usage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ea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about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recor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715000" y="1905120"/>
            <a:ext cx="2971800" cy="1143000"/>
            <a:chOff x="5715000" y="1905120"/>
            <a:chExt cx="2971800" cy="1143000"/>
          </a:xfrm>
        </p:grpSpPr>
        <p:sp>
          <p:nvSpPr>
            <p:cNvPr id="87" name=""/>
            <p:cNvSpPr/>
            <p:nvPr/>
          </p:nvSpPr>
          <p:spPr>
            <a:xfrm>
              <a:off x="5715000" y="190512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248"/>
                  </a:lnTo>
                  <a:cubicBezTo>
                    <a:pt x="10800" y="10148"/>
                    <a:pt x="16200" y="11048"/>
                    <a:pt x="21600" y="11048"/>
                  </a:cubicBezTo>
                  <a:cubicBezTo>
                    <a:pt x="16200" y="11048"/>
                    <a:pt x="10800" y="11948"/>
                    <a:pt x="10800" y="12848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00800" y="22701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protocol sup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715000" y="3124080"/>
            <a:ext cx="2971800" cy="1295640"/>
            <a:chOff x="5715000" y="3124080"/>
            <a:chExt cx="2971800" cy="1295640"/>
          </a:xfrm>
        </p:grpSpPr>
        <p:sp>
          <p:nvSpPr>
            <p:cNvPr id="90" name=""/>
            <p:cNvSpPr/>
            <p:nvPr/>
          </p:nvSpPr>
          <p:spPr>
            <a:xfrm>
              <a:off x="5715000" y="3124080"/>
              <a:ext cx="228600" cy="12956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248"/>
                  </a:lnTo>
                  <a:cubicBezTo>
                    <a:pt x="10800" y="10148"/>
                    <a:pt x="16200" y="11048"/>
                    <a:pt x="21600" y="11048"/>
                  </a:cubicBezTo>
                  <a:cubicBezTo>
                    <a:pt x="16200" y="11048"/>
                    <a:pt x="10800" y="11948"/>
                    <a:pt x="10800" y="12848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0800" y="356544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format-specific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metada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715000" y="4572000"/>
            <a:ext cx="3124080" cy="1295280"/>
            <a:chOff x="5715000" y="4572000"/>
            <a:chExt cx="3124080" cy="1295280"/>
          </a:xfrm>
        </p:grpSpPr>
        <p:sp>
          <p:nvSpPr>
            <p:cNvPr id="93" name=""/>
            <p:cNvSpPr/>
            <p:nvPr/>
          </p:nvSpPr>
          <p:spPr>
            <a:xfrm>
              <a:off x="5715000" y="4572000"/>
              <a:ext cx="228600" cy="12952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248"/>
                  </a:lnTo>
                  <a:cubicBezTo>
                    <a:pt x="10800" y="10148"/>
                    <a:pt x="16200" y="11048"/>
                    <a:pt x="21600" y="11048"/>
                  </a:cubicBezTo>
                  <a:cubicBezTo>
                    <a:pt x="16200" y="11048"/>
                    <a:pt x="10800" y="11948"/>
                    <a:pt x="10800" y="12848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48520" y="493704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community-specific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record da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identifiers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25290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ai-identifier =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oai:archive-identifier:record-identif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55600" y="3071880"/>
            <a:ext cx="3079800" cy="1733040"/>
            <a:chOff x="255600" y="3071880"/>
            <a:chExt cx="3079800" cy="1733040"/>
          </a:xfrm>
        </p:grpSpPr>
        <p:sp>
          <p:nvSpPr>
            <p:cNvPr id="98" name=""/>
            <p:cNvSpPr/>
            <p:nvPr/>
          </p:nvSpPr>
          <p:spPr>
            <a:xfrm rot="16200000">
              <a:off x="3008520" y="2895480"/>
              <a:ext cx="150480" cy="50328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12960 h 503280"/>
                <a:gd name="textAreaBottom" fmla="*/ 49032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579"/>
                  </a:lnTo>
                  <a:cubicBezTo>
                    <a:pt x="10800" y="10479"/>
                    <a:pt x="5400" y="11379"/>
                    <a:pt x="0" y="11379"/>
                  </a:cubicBezTo>
                  <a:cubicBezTo>
                    <a:pt x="5400" y="11379"/>
                    <a:pt x="10800" y="12279"/>
                    <a:pt x="10800" y="1317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5600" y="3501720"/>
              <a:ext cx="2008080" cy="1303200"/>
            </a:xfrm>
            <a:prstGeom prst="wedgeEllipseCallout">
              <a:avLst>
                <a:gd name="adj1" fmla="val 90870"/>
                <a:gd name="adj2" fmla="val -69851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gistered URI Sche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96920" y="3074760"/>
            <a:ext cx="3918240" cy="3097440"/>
            <a:chOff x="1996920" y="3074760"/>
            <a:chExt cx="3918240" cy="3097440"/>
          </a:xfrm>
        </p:grpSpPr>
        <p:sp>
          <p:nvSpPr>
            <p:cNvPr id="101" name=""/>
            <p:cNvSpPr/>
            <p:nvPr/>
          </p:nvSpPr>
          <p:spPr>
            <a:xfrm rot="16200000">
              <a:off x="4591080" y="1887120"/>
              <a:ext cx="136440" cy="2511720"/>
            </a:xfrm>
            <a:custGeom>
              <a:avLst/>
              <a:gdLst>
                <a:gd name="textAreaLeft" fmla="*/ 87120 w 136440"/>
                <a:gd name="textAreaRight" fmla="*/ 136800 w 136440"/>
                <a:gd name="textAreaTop" fmla="*/ 65160 h 2511720"/>
                <a:gd name="textAreaBottom" fmla="*/ 2446560 h 251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96920" y="4869000"/>
              <a:ext cx="2967120" cy="1303200"/>
            </a:xfrm>
            <a:prstGeom prst="wedgeEllipseCallout">
              <a:avLst>
                <a:gd name="adj1" fmla="val 38226"/>
                <a:gd name="adj2" fmla="val -167541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rchive Idendifier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gistered within OA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743440" y="3060720"/>
            <a:ext cx="3164040" cy="2706840"/>
            <a:chOff x="5743440" y="3060720"/>
            <a:chExt cx="3164040" cy="2706840"/>
          </a:xfrm>
        </p:grpSpPr>
        <p:sp>
          <p:nvSpPr>
            <p:cNvPr id="104" name=""/>
            <p:cNvSpPr/>
            <p:nvPr/>
          </p:nvSpPr>
          <p:spPr>
            <a:xfrm rot="16200000">
              <a:off x="7125120" y="1932840"/>
              <a:ext cx="120960" cy="2376360"/>
            </a:xfrm>
            <a:custGeom>
              <a:avLst/>
              <a:gdLst>
                <a:gd name="textAreaLeft" fmla="*/ 77400 w 120960"/>
                <a:gd name="textAreaRight" fmla="*/ 121320 w 12096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579"/>
                  </a:lnTo>
                  <a:cubicBezTo>
                    <a:pt x="10800" y="10479"/>
                    <a:pt x="5400" y="11379"/>
                    <a:pt x="0" y="11379"/>
                  </a:cubicBezTo>
                  <a:cubicBezTo>
                    <a:pt x="5400" y="11379"/>
                    <a:pt x="10800" y="12279"/>
                    <a:pt x="10800" y="1317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43440" y="4059360"/>
              <a:ext cx="3164040" cy="1708200"/>
            </a:xfrm>
            <a:prstGeom prst="wedgeEllipseCallout">
              <a:avLst>
                <a:gd name="adj1" fmla="val -3236"/>
                <a:gd name="adj2" fmla="val -9674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Unique ID within archiv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syntax is archive-specific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762120" y="48481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=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oai:ncstrl:ncstrl.cornellcs/TR94-14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12952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ally unique key for extracting a record from 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209680"/>
            <a:ext cx="815328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selective harvesting - datestamps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943240" y="2146320"/>
            <a:ext cx="1524240" cy="4176720"/>
            <a:chOff x="5943240" y="2146320"/>
            <a:chExt cx="1524240" cy="4176720"/>
          </a:xfrm>
        </p:grpSpPr>
        <p:grpSp>
          <p:nvGrpSpPr>
            <p:cNvPr id="111" name=""/>
            <p:cNvGrpSpPr/>
            <p:nvPr/>
          </p:nvGrpSpPr>
          <p:grpSpPr>
            <a:xfrm>
              <a:off x="5943240" y="2438280"/>
              <a:ext cx="1066680" cy="3581640"/>
              <a:chOff x="5943240" y="2438280"/>
              <a:chExt cx="1066680" cy="3581640"/>
            </a:xfrm>
          </p:grpSpPr>
          <p:sp>
            <p:nvSpPr>
              <p:cNvPr id="112" name=""/>
              <p:cNvSpPr/>
              <p:nvPr/>
            </p:nvSpPr>
            <p:spPr>
              <a:xfrm rot="5400000">
                <a:off x="4685760" y="3695760"/>
                <a:ext cx="358164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13" name="OA50" descr=""/>
              <p:cNvPicPr/>
              <p:nvPr/>
            </p:nvPicPr>
            <p:blipFill>
              <a:blip r:embed="rId1"/>
              <a:stretch/>
            </p:blipFill>
            <p:spPr>
              <a:xfrm>
                <a:off x="6238800" y="4062240"/>
                <a:ext cx="476280" cy="333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7010280" y="2146320"/>
              <a:ext cx="457200" cy="4176720"/>
              <a:chOff x="7010280" y="2146320"/>
              <a:chExt cx="457200" cy="4176720"/>
            </a:xfrm>
          </p:grpSpPr>
          <p:sp>
            <p:nvSpPr>
              <p:cNvPr id="115" name=""/>
              <p:cNvSpPr/>
              <p:nvPr/>
            </p:nvSpPr>
            <p:spPr>
              <a:xfrm>
                <a:off x="7010280" y="214632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034040" y="225612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3138480" y="3184560"/>
            <a:ext cx="2440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2438280"/>
            <a:ext cx="533160" cy="60984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29600" y="3352680"/>
            <a:ext cx="533520" cy="609840"/>
          </a:xfrm>
          <a:prstGeom prst="foldedCorner">
            <a:avLst>
              <a:gd name="adj" fmla="val 12500"/>
            </a:avLst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72400" y="4572000"/>
            <a:ext cx="533520" cy="609480"/>
          </a:xfrm>
          <a:prstGeom prst="foldedCorner">
            <a:avLst>
              <a:gd name="adj" fmla="val 12500"/>
            </a:avLst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5486400"/>
            <a:ext cx="533520" cy="609480"/>
          </a:xfrm>
          <a:prstGeom prst="foldedCorner">
            <a:avLst>
              <a:gd name="adj" fmla="val 12500"/>
            </a:avLst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743200" y="2057400"/>
            <a:ext cx="3048120" cy="838080"/>
            <a:chOff x="2743200" y="2057400"/>
            <a:chExt cx="3048120" cy="838080"/>
          </a:xfrm>
        </p:grpSpPr>
        <p:sp>
          <p:nvSpPr>
            <p:cNvPr id="123" name=""/>
            <p:cNvSpPr/>
            <p:nvPr/>
          </p:nvSpPr>
          <p:spPr>
            <a:xfrm>
              <a:off x="2819520" y="2895480"/>
              <a:ext cx="297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3200" y="2057400"/>
              <a:ext cx="29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harvest within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date ran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838080" y="3352680"/>
            <a:ext cx="7239240" cy="2743200"/>
            <a:chOff x="838080" y="3352680"/>
            <a:chExt cx="7239240" cy="2743200"/>
          </a:xfrm>
        </p:grpSpPr>
        <p:sp>
          <p:nvSpPr>
            <p:cNvPr id="126" name=""/>
            <p:cNvSpPr/>
            <p:nvPr/>
          </p:nvSpPr>
          <p:spPr>
            <a:xfrm>
              <a:off x="1981080" y="3809880"/>
              <a:ext cx="609624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3352680"/>
              <a:ext cx="838440" cy="83844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co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5257800"/>
              <a:ext cx="838440" cy="83808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co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81080" y="5638680"/>
              <a:ext cx="609624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selective harvesting - sets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333760" y="2146320"/>
            <a:ext cx="1524240" cy="4176720"/>
            <a:chOff x="5333760" y="2146320"/>
            <a:chExt cx="1524240" cy="4176720"/>
          </a:xfrm>
        </p:grpSpPr>
        <p:grpSp>
          <p:nvGrpSpPr>
            <p:cNvPr id="132" name=""/>
            <p:cNvGrpSpPr/>
            <p:nvPr/>
          </p:nvGrpSpPr>
          <p:grpSpPr>
            <a:xfrm>
              <a:off x="5333760" y="2438280"/>
              <a:ext cx="1066680" cy="3581640"/>
              <a:chOff x="5333760" y="2438280"/>
              <a:chExt cx="1066680" cy="3581640"/>
            </a:xfrm>
          </p:grpSpPr>
          <p:sp>
            <p:nvSpPr>
              <p:cNvPr id="133" name=""/>
              <p:cNvSpPr/>
              <p:nvPr/>
            </p:nvSpPr>
            <p:spPr>
              <a:xfrm rot="5400000">
                <a:off x="4076280" y="3695760"/>
                <a:ext cx="358164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34" name="OA50" descr=""/>
              <p:cNvPicPr/>
              <p:nvPr/>
            </p:nvPicPr>
            <p:blipFill>
              <a:blip r:embed="rId1"/>
              <a:stretch/>
            </p:blipFill>
            <p:spPr>
              <a:xfrm>
                <a:off x="5629320" y="4062240"/>
                <a:ext cx="476280" cy="333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" name=""/>
            <p:cNvGrpSpPr/>
            <p:nvPr/>
          </p:nvGrpSpPr>
          <p:grpSpPr>
            <a:xfrm>
              <a:off x="6400800" y="2146320"/>
              <a:ext cx="457200" cy="4176720"/>
              <a:chOff x="6400800" y="2146320"/>
              <a:chExt cx="457200" cy="4176720"/>
            </a:xfrm>
          </p:grpSpPr>
          <p:sp>
            <p:nvSpPr>
              <p:cNvPr id="136" name=""/>
              <p:cNvSpPr/>
              <p:nvPr/>
            </p:nvSpPr>
            <p:spPr>
              <a:xfrm>
                <a:off x="6400800" y="214632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424560" y="225612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3138480" y="3184560"/>
            <a:ext cx="2440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81080" y="2362320"/>
            <a:ext cx="2971800" cy="533160"/>
            <a:chOff x="1981080" y="2362320"/>
            <a:chExt cx="2971800" cy="533160"/>
          </a:xfrm>
        </p:grpSpPr>
        <p:sp>
          <p:nvSpPr>
            <p:cNvPr id="140" name=""/>
            <p:cNvSpPr/>
            <p:nvPr/>
          </p:nvSpPr>
          <p:spPr>
            <a:xfrm>
              <a:off x="1981080" y="2895480"/>
              <a:ext cx="297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1080" y="23623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harvest within s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315200" y="4191120"/>
            <a:ext cx="1600200" cy="14475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4495680"/>
            <a:ext cx="380880" cy="457200"/>
          </a:xfrm>
          <a:prstGeom prst="foldedCorner">
            <a:avLst>
              <a:gd name="adj" fmla="val 12500"/>
            </a:avLst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4648320"/>
            <a:ext cx="381240" cy="457200"/>
          </a:xfrm>
          <a:prstGeom prst="foldedCorner">
            <a:avLst>
              <a:gd name="adj" fmla="val 12500"/>
            </a:avLst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77320" y="4800600"/>
            <a:ext cx="380880" cy="457200"/>
          </a:xfrm>
          <a:prstGeom prst="foldedCorner">
            <a:avLst>
              <a:gd name="adj" fmla="val 12500"/>
            </a:avLst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315200" y="2133720"/>
            <a:ext cx="1600200" cy="1828800"/>
            <a:chOff x="7315200" y="2133720"/>
            <a:chExt cx="1600200" cy="1828800"/>
          </a:xfrm>
        </p:grpSpPr>
        <p:grpSp>
          <p:nvGrpSpPr>
            <p:cNvPr id="147" name=""/>
            <p:cNvGrpSpPr/>
            <p:nvPr/>
          </p:nvGrpSpPr>
          <p:grpSpPr>
            <a:xfrm>
              <a:off x="7315200" y="2133720"/>
              <a:ext cx="1600200" cy="1828800"/>
              <a:chOff x="7315200" y="2133720"/>
              <a:chExt cx="1600200" cy="1828800"/>
            </a:xfrm>
          </p:grpSpPr>
          <p:sp>
            <p:nvSpPr>
              <p:cNvPr id="148" name=""/>
              <p:cNvSpPr/>
              <p:nvPr/>
            </p:nvSpPr>
            <p:spPr>
              <a:xfrm>
                <a:off x="7315200" y="2514600"/>
                <a:ext cx="1600200" cy="144792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48720" y="21337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S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7772400" y="2819520"/>
              <a:ext cx="380880" cy="457200"/>
            </a:xfrm>
            <a:prstGeom prst="foldedCorner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24680" y="2971800"/>
              <a:ext cx="381240" cy="457200"/>
            </a:xfrm>
            <a:prstGeom prst="foldedCorner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77320" y="3124080"/>
              <a:ext cx="380880" cy="457200"/>
            </a:xfrm>
            <a:prstGeom prst="foldedCorner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38080" y="4495680"/>
            <a:ext cx="6324840" cy="1143000"/>
            <a:chOff x="838080" y="4495680"/>
            <a:chExt cx="6324840" cy="1143000"/>
          </a:xfrm>
        </p:grpSpPr>
        <p:sp>
          <p:nvSpPr>
            <p:cNvPr id="154" name=""/>
            <p:cNvSpPr/>
            <p:nvPr/>
          </p:nvSpPr>
          <p:spPr>
            <a:xfrm>
              <a:off x="838080" y="4495680"/>
              <a:ext cx="838440" cy="83844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co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81080" y="4876920"/>
              <a:ext cx="518184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90720" y="4648320"/>
              <a:ext cx="838080" cy="83808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co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3000" y="4800600"/>
              <a:ext cx="838080" cy="83808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co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906680" y="56386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set specifics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sitories define hierarchical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item in a repository may be organized in one set, several sets, or no sets at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ing of sets or of set hierarchy is not defined in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vidual communities may formulate common set configu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HTTP encoding - requests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213372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ASE-URL -----------&gt;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n.oa.org/OAI-scrip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keyword arguments --&gt;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erb=ListIdentifers&amp;set=S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320040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http://an.oa.org/OAI-script?verb=ListIdentifers&amp;set=S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4098960"/>
            <a:ext cx="731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S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POST http://an.oa.org/OAI-script HTTP/1.0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Content-Length: 78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Content-Type: application/x-www-form-urlencode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verb=ListIdentifers&amp;set=S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15:34:48Z</dcterms:created>
  <dc:creator>165868</dc:creator>
  <dc:description/>
  <dc:language>en-US</dc:language>
  <cp:lastModifiedBy>lagoze</cp:lastModifiedBy>
  <dcterms:modified xsi:type="dcterms:W3CDTF">2001-01-26T19:36:38Z</dcterms:modified>
  <cp:revision>486</cp:revision>
  <dc:subject/>
  <dc:title>No Slide Title</dc:title>
</cp:coreProperties>
</file>